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D7E3-8C17-4858-BD70-37B20530F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A4AC-C356-4978-8CE3-D80493C65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FC0D-C9AF-45D7-BD27-DA44685FB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F5CF-154B-4676-9698-543878D18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DF22-F48B-41F3-A0CD-4268C776A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11C1-AF87-48A2-9E67-76BC51EA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7F5-CEE5-49C8-9075-E3D48804B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DFDD-5C7A-409B-931C-C3D33024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AB2-FD01-450D-9FFB-B35B51B6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9A9-997D-4AA5-AE95-57DB3A03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352-C889-4B92-B7AD-3130E463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39F2-E039-46A1-A015-16880C1C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AF5-1886-42AF-B433-BC546301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179E-AC42-42FA-A650-C95EF38E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DAE0-C567-4E73-B11A-7A59C45A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DEF-2385-4127-835A-6069763C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233-5C38-4CFE-A32A-7ECC6149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F3E8-FDA3-41BA-AC2D-04725C97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9F68-DD20-4E96-B16B-FBB5529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C7AE-2FF0-4ED8-9A44-12935CD10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2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36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46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7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7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27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38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48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58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9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9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29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40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50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60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11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21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31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42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52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62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13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2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34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4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54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6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27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28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YOUR NAM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8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9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0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09"/>
          <p:cNvSpPr/>
          <p:nvPr/>
        </p:nvSpPr>
        <p:spPr>
          <a:xfrm>
            <a:off x="6172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0"/>
          <p:cNvSpPr/>
          <p:nvPr/>
        </p:nvSpPr>
        <p:spPr>
          <a:xfrm>
            <a:off x="7696080" y="10033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lumn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ustral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nim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9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Maruspial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44792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ostri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On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ding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asmani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371600" y="25146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Kiwi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Final Jeopardy Respon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rrect Response Two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 </cp:lastModifiedBy>
  <dcterms:modified xsi:type="dcterms:W3CDTF">2010-04-21T14:08:48Z</dcterms:modified>
  <cp:revision>45</cp:revision>
  <dc:subject/>
  <dc:title>No Slide Title</dc:title>
</cp:coreProperties>
</file>